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3B2-F3DB-4E1F-9DB5-3B715031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33C-B206-4210-AED9-10F34199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79F1E3-CF2F-4564-974F-617E1CAD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C4359-D488-463C-AA0B-D736A051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62B9F-13DF-4F2A-820F-58AF5375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66FB2-0768-407E-A436-2F6B8424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2C8D3-4548-4B58-A071-71EE1D55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45CDD-723F-4BA9-ACAB-D46779AF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A2816-82D1-4C4B-B025-6DAE6000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29A2B-CECA-4F61-B709-30179280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8F8A0-F09A-4838-ABA0-70C0FA48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3E0FC-1CE2-4EB4-9D53-FEA20567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FA6-645F-4C1C-96F6-F66B6388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2EF6F-E457-46AC-8D49-24ED8320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92114-AAE0-449D-B09C-11EFCA85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8B492-4F28-47BE-9349-DB8547B4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3332C-B546-44B4-9879-0C973036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38F35-9D4A-4BF3-9CB6-32DDD65F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2273D-BA32-4637-B9BF-9E0ED745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569E9-5A7F-4BDE-8EE7-502810A7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B65D0-37C4-4711-8D90-82A8ED21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BB63E-F66B-4A10-BBC2-D9BDF472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9765C-9D71-40BD-A8D9-658B7670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33D-EBE9-4559-8100-0561064F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5E0FB-56BA-431C-BA9E-5D5D5E42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3EF255-AE21-416F-8AB8-CBA1D8A7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D9B86E-DD07-4A06-92DC-2C17EB4F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361B53-45C3-4675-92FA-6A6E653D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C69B8D-3565-44D7-BEAF-1CD7E4CD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BEC9D5-0444-498D-899F-18B95F94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C744B3-6F1D-436A-B3C2-E56E4CBE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2A204A-EE1A-48CE-A711-AA6A85E3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CC12B0-6BDA-43C6-BCBE-F5B4D648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A329DC-1741-447D-A134-8AF72C4A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AAC1-0820-406C-94AB-E232BA1E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292DFA-9782-47A2-974C-CD3D566E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17802E-BA10-458E-9918-09B43B8C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D2824E-EAF4-4D44-AF03-4E2457E0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DBEC-C14D-4358-A084-BBD7C560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1C44-65E7-41A0-A7EC-553296C0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1D12-F3CA-42A3-AA38-8A0B6C27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7CF2-8D11-4995-AD62-B0304CAB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3FF5-5952-4197-AB24-4E4749FA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04F0-F0D2-4BD3-974A-9DE579B3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559F-5D56-4966-8585-773BA46E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C4AB-DB65-49D3-A3C4-A79A0E45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A76C-1F34-45BF-A918-AD44BB4A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3D83-42D5-4BD5-A42C-D15D8817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704B-B1CE-4D8F-B8B1-A70129DA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DD4B-FC80-4340-833A-A651C483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7ECCF-FAF2-490C-A816-26AD0437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73356-2DAB-4E11-A9C9-FC1349DC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EAF92-1B40-4140-9697-71AC741E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D5595-183A-4811-B43F-7627675E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AF2FB-8F62-47BB-BBDC-5AC93B5B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199-7C60-40B3-A670-B5925DEE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25DEB-97CD-4BC6-9072-F16622CC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A8B25-E340-4927-8D52-94C968DA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0A630-BE63-45D3-B4A7-71F9EF89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993D-9F5C-48A1-9DF8-194D28F0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7979D-226D-491B-B464-6B6E6EF8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E244F-E7B1-4D30-B0BD-2224CD99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3B056-4AC3-45EA-946E-70BA6F65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D532-4A42-4831-A1F2-6B13BD3E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E2775-7845-4364-85A7-2C6C3381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EE7E8-FC3E-4871-AAF5-0B5D371D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13B-8E16-411B-BE23-12F5FC7C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27337-C199-4003-BB9F-73DD55EB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503DA-E167-4BAC-B40E-19B0DF11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A89C3-4C5B-4D81-AC9D-FE3D3086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68453-8A3C-41F3-8BA3-B137A71A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0756B-2342-441E-95D0-FA26D7E8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CE17B-CE7D-4F44-AFA4-81380951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CB397-1D83-4D96-9C4F-2CA5E162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8ED92-52A3-4FAE-AAE2-972085EC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5F89C-4FFE-42A5-8471-8B5CC3BB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7E67A-F08F-4CE8-985E-CFF1C1C8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4C7-0C0C-4DE2-BE85-5FC6F5F8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2DB0C-4A13-4496-9430-7CF49B15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3D660-BF84-47C3-8E28-54ED5178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D4906-CD96-4C0F-B7BD-62E9A527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F7BCC-C0BB-41AD-8D88-5810B355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C5A06-EF98-48CE-A792-5A532397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1FCA0-F563-407B-A1D7-D5B1D1F4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19597-2EFD-48BA-BE0D-021F05A0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B146B-1B18-4245-95F2-6CBDCCF0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31ECF-7A68-44A6-8437-4D34600F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468C6-8450-4209-8B4F-B6FD3A6D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9F1-F591-4E73-891C-41D45E82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05E59-63C9-4220-8A46-A1834736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1EB18-C8E7-4BDE-8FC1-786E703D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211D9-BD99-40AE-BB00-C262DCA0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8274C-5A18-4B58-BC2D-E65ACE06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2642E-9145-4E5C-8184-EB3A540D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D5B60-4D70-445F-A59E-01EDF27A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778BF-0DF4-4A38-A922-85EB3D32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6A1E2-7A24-4671-9479-FC01DE6E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72AFC-AAD6-4206-B2CA-23AB695A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90B4F-D796-4B25-BB68-901A0FCF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637-0349-452C-AE05-D3DDB769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536D4-AAAB-4CF6-B9FB-85FC6598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E1366-81BA-4C8C-BD5F-1515EE63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55153-0138-4FF3-8014-5AAAE82E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48D29-D880-4193-8EB2-C9659294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13DD7-6185-4272-B41A-E71FD519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98333-E6E7-4817-BC2C-5AFD533D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B792F-88AB-4BE4-9EBB-5A2CE78C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8B426-BD6A-4636-9614-D466EA83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14317-6EBD-4FC5-B5E2-478E2EC4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B0F22-3552-4A51-A462-83A1230A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F0B-EF9C-4109-8BBA-944214CB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52358-62B4-45DD-B9EA-289524C6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0DEF6-F3A7-40F2-AF93-B702A09B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F68C5-A3E2-4AF0-8BAF-12AB930B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691BA-B20D-45C5-9D5F-EF7EDF4D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35382-1040-40DA-9038-C0EBE6E2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A2DE4-F238-4452-A03E-1B4B72D3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EFEE9-DED2-495C-8877-EE82C2A8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045E0-4689-4AAE-9CDB-594C01C3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71A38-C4AC-4866-8D79-AAFD3BC3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823B1-AD5C-484A-AD9A-F62E969D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FC6-78F7-4E45-B04D-0904F930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992F8-9371-4B33-867C-D3C7AD58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DDCE7-01DB-4CEC-A439-31954725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FB131-5F6B-4DD4-8BDB-554CED69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54517-144B-4AEB-8CA6-62D82F54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A1B45-74FB-434A-B1C7-5F3A1C89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77B05-5631-4BEB-9C1C-90F33167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11A11-CE52-4638-840E-6C4A1A8B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CFF9C8-0DA7-4A40-BAD7-A8F40FB5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0279C-5969-4E16-80AD-0B6F4594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A3BD9-538A-4E43-B29A-67C3917D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33C2-95EC-481E-B5D1-0BE192200115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129C-8670-40DD-8A97-FB722C32736A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91C6-D6B8-4D1B-8208-8DFE6E5694E3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5983-8650-412C-8562-5D4ACF01BC5A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01CA-CE6F-4D3C-8ECD-02DB391C1FF8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A677-D101-4D3D-918C-ECE93FCEFD6D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397D-E9D7-4AD3-81CD-26E9C1B96111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4AC6-86AD-468F-ACB0-32DFCCFD9CD2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7D4B-3410-415A-BE0A-A453BCBEB308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5C21-F884-40AC-A0C8-98F2E78455D8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53AD-8852-4090-8510-7640A47DF3A0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2FE9-7597-42FF-91EC-70CFD2316914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64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3282-2EAA-4A34-8A72-0EDDBE888E85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65D9-F8B6-4A48-9E14-097C221FDBE5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64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BD62-BDEB-4D3C-AA8F-A7359B0F693D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A25D-47CF-4882-8B28-5CC76DB06FB4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7565-9454-4630-8A16-76A11EFC421A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F5B8-728B-456A-9EB8-DF415447DABD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B52C-D364-4B82-B837-D87DCBD20038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8582-D276-4B51-B296-A3F69FF4CB42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A547-2E4E-4B4D-A709-41B28682E396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BC85-D1E3-446F-916E-E8FD5965DC16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000" spc="-1" strike="noStrike">
                <a:solidFill>
                  <a:srgbClr val="cf5716"/>
                </a:solidFill>
                <a:latin typeface="Georgia"/>
              </a:rPr>
              <a:t>7</a:t>
            </a:r>
            <a:r>
              <a:rPr b="1" lang="en-US" sz="3000" spc="-1" strike="noStrike" baseline="30000">
                <a:solidFill>
                  <a:srgbClr val="cf5716"/>
                </a:solidFill>
                <a:latin typeface="Georgia"/>
              </a:rPr>
              <a:t>th</a:t>
            </a:r>
            <a:r>
              <a:rPr b="1" lang="en-US" sz="3000" spc="-1" strike="noStrike">
                <a:solidFill>
                  <a:srgbClr val="cf5716"/>
                </a:solidFill>
                <a:latin typeface="Georgia"/>
              </a:rPr>
              <a:t> Annual Partners in Learning Conference 2012</a:t>
            </a:r>
            <a:endParaRPr b="0" lang="en-US" sz="3000" spc="-1" strike="noStrike">
              <a:solidFill>
                <a:srgbClr val="cf5716"/>
              </a:solidFill>
              <a:latin typeface="Georgia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7816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RATIONAL TO PURSUE THE GRADE, THE POINTS. NOT THE GRADE, YOU ARE CAPABLE OF MORE. SHIFTS FOCU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TEACHING TO THE TEST, JUST REGURGITATE INFORMATION, NO LONG TERM LEARN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SOCIAL CONSTRUCT, OUTSIDE PRESSURE, FOCUS OF HOW SOCIETY SEES YOU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Synthesis #1</a:t>
            </a:r>
            <a:endParaRPr b="0" lang="en-US" sz="4200" spc="-1" strike="noStrike">
              <a:solidFill>
                <a:srgbClr val="cf571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EARLY FEEDBACK LEADS TO GRADED SYSTEM BEING MORE PROFOUN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DISCONNECT BETWEEN LEARNING AND GPA, CAN NOT PERFORM IN LAB, REAL PRACTICAL. LESS FEEDBACK, EASIER FOR TEACHER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ARE GRADES ELITIST, THEY ARE EXCLUSIONARY. MORE PEOPLE COULD COME TO THE COMMUN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Synthesis #2</a:t>
            </a:r>
            <a:endParaRPr b="0" lang="en-US" sz="4200" spc="-1" strike="noStrike">
              <a:solidFill>
                <a:srgbClr val="cf571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GRADE AND NARRATIVE FEEDBACK. COMMUNICATION BETWEEN COLLEAGU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GROUP ACTIVITIES AND SELF ASSESSMENT. NEW PERSPECTIVES. STUDENTS EVALUATING STUDE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SELF ASSESSMENT. PORTFOLIOS AS OPPOSED TO BEING GRADED PIECEMEA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Synthesis #3</a:t>
            </a:r>
            <a:endParaRPr b="0" lang="en-US" sz="4200" spc="-1" strike="noStrike">
              <a:solidFill>
                <a:srgbClr val="cf571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osing Activity</a:t>
            </a:r>
            <a:br>
              <a:rPr sz="3300"/>
            </a:b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are you taking away from today’s discussion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cf5716"/>
                </a:solidFill>
                <a:latin typeface="Georgia"/>
              </a:rPr>
              <a:t>Welcome to 2012 Partners in Learning Conference</a:t>
            </a:r>
            <a:endParaRPr b="0" lang="en-US" sz="28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Facilitators: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Jeanni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Brad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Kat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resenter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Antonio    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Ramirez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Inspiring Talk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ould you teach differently if you didn’t have to give grades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Ground Rules</a:t>
            </a:r>
            <a:endParaRPr b="0" lang="en-US" sz="36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124080" y="685800"/>
            <a:ext cx="5639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Listen Deepl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Be Presen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Share Air Tim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Speak Your Mind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Speak From Experienc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Be Open To Other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ave Fun!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5716"/>
                </a:solidFill>
                <a:latin typeface="Georgia"/>
              </a:rPr>
              <a:t>Icebreaker</a:t>
            </a:r>
            <a:endParaRPr b="0" lang="en-US" sz="44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's the most memorable feedback you have ever received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Questions/Discussion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How have grades affected your experience as a student and/or teachers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Questions/Discussion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Do you think that the grade system has impact, positive or negative, on the community we work to build at De Anza?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Questions/Discussion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How might alternative mechanisms of assessment better help to build a learning 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community? 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0" y="2971800"/>
            <a:ext cx="64800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REPORT OU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Synthesis</a:t>
            </a:r>
            <a:br>
              <a:rPr sz="4200"/>
            </a:br>
            <a:endParaRPr b="0" lang="en-US" sz="4000" spc="-1" strike="noStrike">
              <a:solidFill>
                <a:srgbClr val="cf5716"/>
              </a:solidFill>
              <a:latin typeface="Georgia"/>
            </a:endParaRPr>
          </a:p>
        </p:txBody>
      </p:sp>
      <p:pic>
        <p:nvPicPr>
          <p:cNvPr id="576" name="Picture 7" descr=""/>
          <p:cNvPicPr/>
          <p:nvPr/>
        </p:nvPicPr>
        <p:blipFill>
          <a:blip r:embed="rId1"/>
          <a:stretch/>
        </p:blipFill>
        <p:spPr>
          <a:xfrm>
            <a:off x="6173640" y="3733920"/>
            <a:ext cx="29703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9:09:47Z</dcterms:created>
  <dc:creator>Kate</dc:creator>
  <dc:description/>
  <dc:language>en-US</dc:language>
  <cp:lastModifiedBy>student</cp:lastModifiedBy>
  <dcterms:modified xsi:type="dcterms:W3CDTF">2012-03-05T21:21:55Z</dcterms:modified>
  <cp:revision>52</cp:revision>
  <dc:subject/>
  <dc:title>Nonverbal Techniques: What To Do</dc:title>
</cp:coreProperties>
</file>