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F99-6BC7-44BC-9024-9120B5FC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913-53C7-4A0A-A112-66AE269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02B74-6310-44B0-8A43-5014BCCF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8FF6D-C493-4C2A-9E92-9A8C4050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085BB-A926-4DA1-A87C-4DA4A3F0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C8EC0-2F2C-4CC5-8076-330F7005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5D6C3-B086-482E-B6FC-6EB1FE2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21D0E-621B-4F0F-917B-657DE91C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702EB-1B37-4B48-B21D-779D9DB6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81734-E49E-408C-AC1B-D6322504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B805E-E6A2-42C7-ADD8-D7FFB729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9D029-5529-4CE1-B2E9-3326581B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9B2-85C7-41DD-91BA-13FF6247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947F0-E185-45CE-966C-DAD9F60F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B2673-24B2-47A1-AEA3-D8C4445A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BFEDB-61B3-4C54-9439-5CB93FC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C98F6-6FEB-4A9E-B797-62D430C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DE496-CD61-4B05-BA68-C08D0DE3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45186-2D7A-442F-8D32-6FB150C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D0A5D-F70C-4DA8-8E04-E184CE2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0CAC0-D767-48B7-A2CE-E5F1714B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708FD-C692-4400-9713-3172D011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70CB4-8694-4ED2-8310-49C67B8C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CA7-7540-47BC-B967-7C5D3E75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AC637-6362-4996-BB5D-BFD7BA1A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EC7B53-6016-4C49-ABAE-400EF841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3B41BC-CCD8-42B2-BF4F-5268625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E42810-5D1C-4096-9D4D-044A9469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772429-D614-47EC-BA43-DEE46605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9EAE71-F445-463B-9490-361AE1A7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AFAA51-B5BE-4F06-A614-5375147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826854-9ED1-4083-9201-A84386C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C94810-6872-45CC-88C2-428C6BE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D507AA-7C71-44B9-8F10-DA0122C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0DBF-E5AC-4A7A-9D9D-53037AA1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26C1E7-AA21-43C9-936A-A1C38702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CA37C7-311A-4304-9131-4F377F08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FC1C71-4482-4DCC-86F2-DC2F278F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EC76-3048-4121-9DBE-9ED5585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FF7C-A430-4B97-8B03-793B45E4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06DF-6514-472F-8BB3-4A2B467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97F6-B4F2-499B-9305-8745D690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FE3-260B-480C-BDD7-617BC66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3BAB-F6AB-4417-BC8D-50D9AA2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AEC-15C3-47EF-BC9B-3A0E3CA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335-152F-40DA-B915-FA7D8E7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3F1-691F-4E9A-AE99-CDB11C5C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0F2A-479C-4DEA-BE71-5F455A3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A899-A15C-4279-A5CE-A4886979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54AE-4143-4D89-913D-0668BB3F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79B1-CC41-4781-BC6B-CECA6269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7DD2-570F-4BBB-88CA-9107DF96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081B-62CD-48FD-B92E-7A7BE463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32A5-766D-4F7A-AD83-88153BD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B27F-4793-4AD5-896E-F8D523C9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C18-007D-496B-BCEF-0AAD6F78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9371-A24F-432D-861D-F08EC3DC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5CC0-AA25-4041-AEE0-37C298A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FB71-7A53-41C7-8D1B-4B6074E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9495-6F0F-4279-84E4-DDB195F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B223-BE22-4BA2-8C63-5AEE1A8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7AC4-B057-472E-B1B8-B13E172D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CB98-00AE-4925-8C65-1D1D8943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2EE3-CAD1-41CC-B178-0D9FF8EC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5D35-7941-42AC-A79F-FA8B1EA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EA2E-88FF-43EE-A152-4E195AFE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236-BF94-483F-95CD-BAFB8951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4150-0A8C-42F2-8E24-4292B109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7302-D8AA-4899-9968-1AC4CC4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D76CB-E43A-45C5-8393-8A89BE30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FF82-87B0-4D5D-8027-C65B180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E326-47DA-42F6-8872-FAB7519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206E-261E-418B-A75C-B7EA832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6708-4BE3-4F44-A03F-D797345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3D76-BDAD-4824-A5EA-26A2189D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853D-4A9E-49A4-8F72-0345EE53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6D5A-1B34-4CC0-818F-A649D887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573-0DE6-43FF-8CF4-AA7BD80D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94A6-BAD8-4E2E-A622-F10F86E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B50D-63DA-4FDF-B8FA-F21A49E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A0B21-F57A-4D6C-9212-BAC44B82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08CF-10FF-4A0B-BF8E-5E335037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8EA6-E3BA-4D7B-82B0-1812654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FA8E-254D-4C0A-8F62-49336BF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F54A-9438-4B69-A640-F98A801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04B0B-F0C7-4F6B-A4A4-F3366D7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E96C-8E91-4F99-A6AD-F100E0AC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05C2-9E33-4C3A-9B85-663AF83E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D11-FA26-4750-B3B4-01CA5576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5916-4704-4632-AAA9-8BFB995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C994-BB04-4B66-B5A5-44024A76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A040-EEF4-47E0-8E26-8DC935A6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8300-815E-4FF2-ABC3-6A51617F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93BF-061E-4BED-A992-04DB569D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6C42-C58C-46B4-84D6-C98B2F1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BC9A-CDF0-4191-B19D-4ED6C4F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84D7-2F0D-4120-807B-CA9D80B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CCB9-A57C-4930-B46D-49D3556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9067-66CB-44FA-BEB9-ED7256E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4B2-8D9F-48F8-8C66-2340C79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7CF3-6E73-4125-A19F-56AB50CE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F9E9-F521-4849-AB68-055E37AC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8FB30-10DA-4C5F-90E2-8DA5482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965F5-8A02-47C9-9081-5D9C0B2D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79C9-8CC5-499B-9913-B32230FA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630EC-701B-4F4F-A787-CB98BD93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5FDC-5879-41D6-B828-770B8537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4764-6EF1-4095-AFBA-01A96F92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7937-A764-4959-A06D-EC4F9580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FD54-9C7B-4EED-9227-97728F4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5C1-DE77-4F8E-A7FE-2A78877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2F47-34F2-49DF-A9C6-E2DC2AC8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DE4B8-E480-4AEF-BB2B-B8C398E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76410-6846-4B4D-82A6-8CC648F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189E2-7934-43C3-8BB3-5F63F5D4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C939-7D23-48F7-8657-7DD08497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6AB28-955E-4C57-AEDD-8F891F49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F259-0344-4730-B58F-F3DBC8E1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4FF8-09B9-446B-8F43-835E812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E24F-BCBD-44CD-A1CE-E779B2F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8B706-E077-4DE1-852E-4CBD30D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A54-F11B-4198-BB23-D46EB54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14367-32F3-4F2F-A238-9A20A1C9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F79E-A513-459A-B66E-C426001C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7A9B-D2AE-4618-9F92-6628F44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BE722-146C-455F-955F-8C381443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5BEA-CDFE-4992-873F-99E270A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74AAD-E881-4D23-ACB6-13B9BC69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D924-869C-483E-AB29-81A160C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3D413-F804-4C16-8858-B85B0F08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853A8-B34E-42E3-B396-AA7D4872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0FF18-C1D0-4707-A95D-14C7B184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300-A432-4AD2-AA42-6E7E95FF6505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CBF-A45A-4C8D-A5C4-899671461F13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CF42-3592-4914-A02D-2E17F02AAB01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8D1A-4CA2-4859-9664-9DDBF9D9052F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4755-34E2-462A-900E-434DF3A9E7A1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27A1-2246-4659-84FA-AA9108437A62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746A-F319-45B2-AD10-35423D22526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73FB-A2B3-4D53-AC58-A76FA520D199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43A7-7EAE-4CEA-B412-C898D08DB962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269-4320-4ACA-BFC0-BD8F353F22A8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A2C8-F155-4A68-AFB9-3814D7C21BE2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CC04-8D69-474C-A6C5-BB3EA4254902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64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BE7-0B0F-443A-8272-761439E3E39F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FE34-D81D-4B07-AE89-867D0E306FC0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64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564C-C7D2-4DE3-B3CC-366EB54366C4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84D-C4F8-4EB3-ABF2-EDAD41B6ABCB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E229-8BBD-4D9B-9433-18C2182C740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54F-3D5E-42D2-AA03-A908018C2FDC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C265-F2ED-44C6-90D5-435DF53FE00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CC5-3E65-46D2-A993-4C0847D5E2B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f57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f57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da1f28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b641b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39639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7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f571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241F-9EB8-4894-8F0B-2B88FE33C84A}" type="slidenum">
              <a:rPr b="0" lang="en-US" sz="1600" spc="-1" strike="noStrike">
                <a:solidFill>
                  <a:srgbClr val="cf5716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3EC5-00C1-4019-BFED-C829D7863990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000" spc="-1" strike="noStrike">
                <a:solidFill>
                  <a:srgbClr val="cf5716"/>
                </a:solidFill>
                <a:latin typeface="Georgia"/>
              </a:rPr>
              <a:t>7</a:t>
            </a:r>
            <a:r>
              <a:rPr b="1" lang="en-US" sz="3000" spc="-1" strike="noStrike" baseline="30000">
                <a:solidFill>
                  <a:srgbClr val="cf5716"/>
                </a:solidFill>
                <a:latin typeface="Georgia"/>
              </a:rPr>
              <a:t>th</a:t>
            </a:r>
            <a:r>
              <a:rPr b="1" lang="en-US" sz="3000" spc="-1" strike="noStrike">
                <a:solidFill>
                  <a:srgbClr val="cf5716"/>
                </a:solidFill>
                <a:latin typeface="Georgia"/>
              </a:rPr>
              <a:t> Annual Partners in Learning Conference 2012</a:t>
            </a:r>
            <a:endParaRPr b="0" lang="en-US" sz="3000" spc="-1" strike="noStrike">
              <a:solidFill>
                <a:srgbClr val="cf5716"/>
              </a:solidFill>
              <a:latin typeface="Georgi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81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RATIONAL TO PURSUE THE GRADE, THE POINTS. NOT THE GRADE, YOU ARE CAPABLE OF MORE. SHIFTS FOCU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TEACHING TO THE TEST, JUST REGURGITATE INFORMATION, NO LONG TERM LEARN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SOCIAL CONSTRUCT, OUTSIDE PRESSURE, FOCUS OF HOW SOCIETY SEES YO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ynthesis #1</a:t>
            </a:r>
            <a:endParaRPr b="0" lang="en-US" sz="4200" spc="-1" strike="noStrike">
              <a:solidFill>
                <a:srgbClr val="cf571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EARLY FEEDBACK LEADS TO GRADED SYSTEM BEING MORE PROFOUN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DISCONNECT BETWEEN LEARNING AND GPA, CAN NOT PERFORM IN LAB, REAL PRACTICAL. LESS FEEDBACK, EASIER FOR TEACH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ARE GRADES ELITIST, THEY ARE EXCLUSIONARY. MORE PEOPLE COULD COME TO THE COMMUN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ynthesis #2</a:t>
            </a:r>
            <a:endParaRPr b="0" lang="en-US" sz="4200" spc="-1" strike="noStrike">
              <a:solidFill>
                <a:srgbClr val="cf571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GRADE AND NARRATIVE FEEDBACK. COMMUNICATION BETWEEN COLLEAGU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GROUP ACTIVITIES AND SELF ASSESSMENT. NEW PERSPECTIVES. STUDENTS EVALUATING STUD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46"/>
                </a:solidFill>
                <a:latin typeface="Georgia"/>
              </a:rPr>
              <a:t>SELF ASSESSMENT. PORTFOLIOS AS OPPOSED TO BEING GRADED PIECEMEA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ynthesis #3</a:t>
            </a:r>
            <a:endParaRPr b="0" lang="en-US" sz="4200" spc="-1" strike="noStrike">
              <a:solidFill>
                <a:srgbClr val="cf571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Closing Activity</a:t>
            </a:r>
            <a:br>
              <a:rPr sz="3300"/>
            </a:b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are you taking away from today’s discussion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f5716"/>
                </a:solidFill>
                <a:latin typeface="Georgia"/>
              </a:rPr>
              <a:t>Welcome to 2012 Partners in Learning Conference</a:t>
            </a:r>
            <a:endParaRPr b="0" lang="en-US" sz="28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acilitators: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Jeanni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Bra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Kat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senter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ntonio    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amirez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Inspiring Talk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ould you teach differently if you didn’t have to give grades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Ground Rules</a:t>
            </a:r>
            <a:endParaRPr b="0" lang="en-US" sz="36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isten Deepl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e Presen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hare Air Tim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peak Your Mind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peak From Experienc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e Open To Othe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5716"/>
                </a:solidFill>
                <a:latin typeface="Georgia"/>
              </a:rPr>
              <a:t>Icebreaker</a:t>
            </a:r>
            <a:endParaRPr b="0" lang="en-US" sz="44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's the most memorable feedback you have ever received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Questions/Discussion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How have grades affected your experience as a student and/or teachers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Questions/Discussion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Do you think that the grade system has impact, positive or negative, on the community we work to build at De Anza?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f5716"/>
                </a:solidFill>
                <a:latin typeface="Georgia"/>
              </a:rPr>
              <a:t>Questions/Discussion</a:t>
            </a:r>
            <a:endParaRPr b="0" lang="en-US" sz="3300" spc="-1" strike="noStrike">
              <a:solidFill>
                <a:srgbClr val="cf5716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How might alternative mechanisms of assessment better help to build a learning 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ommunity? 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0" y="2971800"/>
            <a:ext cx="64800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PORT OU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ynthesis</a:t>
            </a:r>
            <a:br>
              <a:rPr sz="4200"/>
            </a:br>
            <a:endParaRPr b="0" lang="en-US" sz="4000" spc="-1" strike="noStrike">
              <a:solidFill>
                <a:srgbClr val="cf5716"/>
              </a:solidFill>
              <a:latin typeface="Georgia"/>
            </a:endParaRPr>
          </a:p>
        </p:txBody>
      </p:sp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6173640" y="3733920"/>
            <a:ext cx="2970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9:09:47Z</dcterms:created>
  <dc:creator>Kate</dc:creator>
  <dc:description/>
  <dc:language>en-US</dc:language>
  <cp:lastModifiedBy>student</cp:lastModifiedBy>
  <dcterms:modified xsi:type="dcterms:W3CDTF">2012-03-05T21:21:55Z</dcterms:modified>
  <cp:revision>52</cp:revision>
  <dc:subject/>
  <dc:title>Nonverbal Techniques: What To Do</dc:title>
</cp:coreProperties>
</file>